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75000"/>
        <c:axId val="12653613"/>
      </c:barChart>
      <c:catAx>
        <c:axId val="59975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53613"/>
        <c:crosses val="autoZero"/>
        <c:auto val="1"/>
        <c:lblAlgn val="ctr"/>
        <c:lblOffset val="100"/>
        <c:noMultiLvlLbl val="0"/>
      </c:catAx>
      <c:valAx>
        <c:axId val="12653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75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7C1-05BC-41D9-99E3-145A6AAE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FF68-5EAD-4D05-A3B8-16BA2D40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EE2-D42B-42ED-8444-9DB6CB11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7DEC-09B0-459F-B4E6-3EFB0026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914-A2E0-470D-B9EA-C9976F98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BCA-8E3F-4C00-B888-EC401EB0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45F-9997-43BA-A9B9-86617DC5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7F9-27E4-4F03-944D-7FA936FF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94C-0AF4-4E41-A6D2-6DDB95B5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9776-C1B1-4D95-89D6-00ABB217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5A3-22BF-48DE-9070-7481B355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ADA-47B3-4254-816B-827E7BEA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E2786-B59A-47CA-8A7D-0B22C2DC9F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