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6831"/>
        <c:axId val="77045987"/>
      </c:barChart>
      <c:catAx>
        <c:axId val="2606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45987"/>
        <c:crosses val="autoZero"/>
        <c:auto val="1"/>
        <c:lblAlgn val="ctr"/>
        <c:lblOffset val="100"/>
        <c:noMultiLvlLbl val="0"/>
      </c:catAx>
      <c:valAx>
        <c:axId val="77045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6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193-58F3-436B-95B7-D83B3A8F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C3C-2F9D-4264-9E31-47EB28F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415-C7E9-4EAE-8EC8-14290D33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CA8-800C-4D79-9AF8-146F00D2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2F4-E1AC-48D2-B7F3-2FB38B8F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5E5-4B24-45B3-BB58-5DB25713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69E-BABE-44DC-9407-73D79C73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724-E35E-45D8-8E09-13655CF1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F7B-E5C0-48D1-892F-A1331A26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6A0-E30D-46C9-B66C-0FB302D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E20-2202-4742-8288-C8BAD26C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C99-485B-4476-A0AE-B68852EF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2A056-5462-48AE-A11B-49539EB60B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