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8573"/>
        <c:axId val="73510750"/>
      </c:barChart>
      <c:catAx>
        <c:axId val="2998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10750"/>
        <c:crosses val="autoZero"/>
        <c:auto val="1"/>
        <c:lblAlgn val="ctr"/>
        <c:lblOffset val="100"/>
        <c:noMultiLvlLbl val="0"/>
      </c:catAx>
      <c:valAx>
        <c:axId val="73510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8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53D-FB57-4AAC-9B3D-57970CF3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2FC4-DE36-4299-B282-70DAC223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3AC-D44B-4281-A174-F1D1D425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262-AE41-41D2-8BD5-13F9991E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21A-401F-47FB-876D-40BBBE81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FC3-F166-459C-A056-F3CF80EE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8EDF-0B63-47C6-8D0E-FDC24080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1ED-4F4D-42E4-BA4C-4C9BAA78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4F8-D297-4BEE-9792-05799832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625-3EBC-4FA0-890B-D737ED6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AD0-6AFA-43B8-8117-EC943EAD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4CE-DC81-450C-A651-C5B443B8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0D00D-8A16-430C-9665-D9E3FD9D70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