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64208"/>
        <c:axId val="6934943"/>
      </c:barChart>
      <c:catAx>
        <c:axId val="71164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4943"/>
        <c:crosses val="autoZero"/>
        <c:auto val="1"/>
        <c:lblAlgn val="ctr"/>
        <c:lblOffset val="100"/>
        <c:noMultiLvlLbl val="0"/>
      </c:catAx>
      <c:valAx>
        <c:axId val="6934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64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07A-EAD2-42FE-B196-70CC1F67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4BD-621B-452A-947A-7592B558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50F-6D06-4785-89D5-FF03504D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1D7-5629-489C-B4C2-BE776BA5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4CE-32B3-45FD-9C6E-B1D7FA88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201B-297F-4DC9-9D08-2FA7D222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DD8-DB65-4589-B82D-312D6B89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8FD-F93A-4490-8E1A-0F1825DA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FCE8-18B0-49B4-8331-87F911E0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D10-2F1D-4DA7-98BF-87AE8D62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DE5-0469-4A37-B2D7-E9CC5D68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568-9B37-4D3B-99A4-6A78B855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6618F-C149-4ADC-9624-C365C201B3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