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06021"/>
        <c:axId val="31080305"/>
      </c:barChart>
      <c:catAx>
        <c:axId val="99606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80305"/>
        <c:crosses val="autoZero"/>
        <c:auto val="1"/>
        <c:lblAlgn val="ctr"/>
        <c:lblOffset val="100"/>
        <c:noMultiLvlLbl val="0"/>
      </c:catAx>
      <c:valAx>
        <c:axId val="31080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06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866-C5A5-4D12-9017-23A83B76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03E-090B-4FD7-9623-21B99AC6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D5B-12A9-49CC-BA54-2BD55BC8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829-52A9-4EC3-8533-D41048A3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F53-CEE2-462C-A57F-706176E8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818-B297-443F-81EB-D362702F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647-157F-4034-A56B-3681C8C6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3A8-BB6D-49B2-9872-55AEAACA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975-942E-40A5-B018-A6F10B80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0B0-D150-4CA2-B1D7-D8C7825D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756-CC6C-4AEC-9EAA-A0543FDD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E47-7BDB-4A17-9270-EA71AE7D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A8814-7EC6-4BF6-9E60-7A435D6B23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