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54829"/>
        <c:axId val="74196485"/>
      </c:barChart>
      <c:catAx>
        <c:axId val="73554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196485"/>
        <c:crosses val="autoZero"/>
        <c:auto val="1"/>
        <c:lblAlgn val="ctr"/>
        <c:lblOffset val="100"/>
        <c:noMultiLvlLbl val="0"/>
      </c:catAx>
      <c:valAx>
        <c:axId val="741964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54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FEF-AB09-47DA-B923-55F51B344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99C-94C8-4C72-B9F0-AD1A75A7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E59F-31CF-47CF-9C57-2B533A0E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D2DB-AA64-43C9-89D1-21D84191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A475-51F0-451D-8738-5707DF46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368B-1ABC-4ACA-8F20-5B9D3FE8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9AB-6DAE-4C97-8895-4AA08151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6352-901B-43BC-AD7D-A6633FD4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5532-A92A-45EF-A8CB-7AB3CBC3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B419-B8C4-4DDD-A443-6095C90C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F431-1154-487C-9B9E-9BE219FB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6E6-41BE-4764-A97A-234CD7F1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EC7D07-3994-4C93-9590-E5ADCB37A7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