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14154"/>
        <c:axId val="84725580"/>
      </c:barChart>
      <c:catAx>
        <c:axId val="10814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25580"/>
        <c:crosses val="autoZero"/>
        <c:auto val="1"/>
        <c:lblAlgn val="ctr"/>
        <c:lblOffset val="100"/>
        <c:noMultiLvlLbl val="0"/>
      </c:catAx>
      <c:valAx>
        <c:axId val="84725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14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60B-5D41-4A2B-967E-EA4B6FDD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408-29BB-4F94-8FEB-764B56F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E33-2241-449D-A45D-F0CE5B3E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6F3-F24E-4D5A-838D-8742500D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38B-2709-4DDE-8934-0FBACA9E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090-7BFB-4348-B60E-DA1F3E4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023-FF3C-42EA-ACC8-D72D4A5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CC1-D6B1-45BB-96CD-62EA68A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DBA-13FA-4CC2-9274-9FFAFDF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8BA-9784-4C56-A787-C073C2FE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10C-4DAF-4733-818C-2F24A6AA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72-F071-41DF-B798-C7DC71F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0985-8F94-4B50-BF9D-322772494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