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877895"/>
        <c:axId val="69834150"/>
      </c:barChart>
      <c:catAx>
        <c:axId val="828778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34150"/>
        <c:crosses val="autoZero"/>
        <c:auto val="1"/>
        <c:lblAlgn val="ctr"/>
        <c:lblOffset val="100"/>
        <c:noMultiLvlLbl val="0"/>
      </c:catAx>
      <c:valAx>
        <c:axId val="698341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8778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05B4-907D-4D98-9C64-3E0B524FA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6857-6E80-4482-B961-D3343F311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AC48-6106-41D1-9683-E4EB4ECF6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312D-629B-48CA-8A43-7D85C2AE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E01F-E082-4B22-96CF-1B5F83B7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0733-EA24-4F1C-93BC-FF5DF08C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43B4-B12F-4EB8-853A-0750B70E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ED9E-FB1C-439A-9C10-F3E546549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C082-D5DF-4C82-A853-E9EA789A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FD52-F7CE-4716-AE37-0BF61763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8F60-C917-4EB9-98FC-91DF8A2D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F5FC-9151-4E27-BB25-82514154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6E81A7-17C4-420A-83A4-DABAFD5116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