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07604"/>
        <c:axId val="11529716"/>
      </c:barChart>
      <c:catAx>
        <c:axId val="35207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29716"/>
        <c:crosses val="autoZero"/>
        <c:auto val="1"/>
        <c:lblAlgn val="ctr"/>
        <c:lblOffset val="100"/>
        <c:noMultiLvlLbl val="0"/>
      </c:catAx>
      <c:valAx>
        <c:axId val="11529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07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B7C-AE84-4CA1-92F5-B639B571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4FE-2323-487F-9F4C-4999EAA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6D0-628F-47D2-B3B5-C224B7E9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559-070A-4D6A-8AD4-BDC57E11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E48-53BA-4980-B5A0-67DBCA8D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7A8-453F-4FB8-B197-F24D7452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128-8983-4D6A-95BE-8A620917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1DC-E6CC-421C-98AB-430073A0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F9E-D821-481A-BC4A-2944159D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08A-A4AD-42B9-A489-FC0010CE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87D-68EE-4342-91AB-47BCE4F8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9D5-5AD3-4819-B853-68B2660D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3F233-E414-476D-974C-BF8BB3E3D4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